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062E-0B97-42A9-9642-9245CD32C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5C8D-358C-4058-AB2A-AE52389E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42539F-B792-47C7-BB0C-FD782B8F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BC9FE5-6734-471A-98FD-219F006A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7A947E-87C1-43C2-B332-70923997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BFFB14-007A-4FB4-B91F-705CED79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8CFB45-8C2A-4B72-BE90-064E6F21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369DEE-81FB-4CFA-8375-1F4405E2F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91FAF2-74BD-4A3A-B254-02D9F385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E706BE-2F83-4F77-8E8C-2A6FF39D8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027DDB-FDA5-4B1B-96E6-A085ECACD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A314-E7F0-4C15-878C-932289D5F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661A-6805-445B-981A-1B2113826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42C8A-A0F3-47F2-BF2E-C01A690A5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2F0B79-39A3-4F57-99DA-83D934D1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4F8C7-4BE8-47B6-BBAF-322E4DDF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FF6FE-FA6F-414E-9108-23FF1960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CEB2A-2187-44CA-AC04-75CA008D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30FDB-CA92-48AD-B1D2-98C9D266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FCEAF-5CC5-4DC8-8E27-08BD4F4A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688A-BAEA-43B7-AC14-7678BAB9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94F9E-7142-4FE4-93E6-3379E015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974D7-7F0D-4B8F-B7F9-817DCA19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BC594-DF4B-4274-9B41-F5BFF0A7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9675B-BCA2-4495-9745-88C124A57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0C3ED-E71E-492F-8059-38F0B3386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954EB-69FE-400C-8B8F-58914B9C3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3796D-16BA-4CA1-A872-C67E5D8A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9CCDA-FBAC-44BF-90AB-2347EDCF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A5282-4D34-4721-B850-D9435C92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18032-1DF7-4C42-8F24-97AAF4F8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8893-FE52-406A-8884-7AC95757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AEE72-AE3C-474E-8705-2CFE608F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D5D02-EEDD-43E6-AE7A-6AF55BA4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70A6C-5401-4C4D-8118-AE42A327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7F578-086E-445B-9573-7399FA16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A09F3-ECD2-472C-A953-E7949780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8E74D-2BB5-4853-B8A1-E8BBEC604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92E5D-C6B9-40DA-9BF5-7CE3F2027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575D14-A86C-416E-8A78-218309FE3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697D99-00A5-4E56-B5D2-C3B761FF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9B8FE5-D3B4-43EB-B143-0B91F47A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F5E5-AE50-4003-8990-66DB04CB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B48868-F221-48AC-B191-A97C1BE8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BD72EB-8576-45B7-B6FF-40106242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839662-F479-4DD7-AEAB-8F975D3A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924DC1-793F-47E4-A88A-B2456693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DC217C-D11F-4668-B08D-02A103E4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B94019-3C4F-41E4-A30C-53A195D8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903D09-0978-44F8-8BC5-9D02A133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6A74D7-8BBF-44B9-BCC4-FF6309464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4EEB5C-9926-4F34-BDCF-0E5D1A027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9F464-5208-444E-8A40-CC391D48A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2CE4-D952-4E4C-8B0E-1B2B33E5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5145E-6B50-4C8F-BC46-5D0114E5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7C403-C616-48D2-BC04-27106411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2CFFF-F2A5-4114-BE65-271953C5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FB116-DA30-4C24-9902-4BC135EB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26517-CA5D-47A3-82C8-0DB6E722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00089-E77A-4795-A376-D09558A8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E86CD-C66B-431F-B3C9-B6BFB6F6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1B3D6-05C2-4BE9-97BB-935A027D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18A95-924F-430F-8F59-C1E048CB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DD828-EB26-40CA-94FC-05EF63F00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1482-92E4-487B-8A90-2382D227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F30AF-86DF-4F40-AC40-55DBC528F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31AA4-C049-40F6-AA59-4C4015B08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8FC80-87C5-411F-A1BE-667AABD4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33801-AD54-41F0-B36A-BAAA696E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6BC4C-4F98-4B68-A935-60E258E4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1B340-F842-41ED-A9D3-D6DC0B5E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7A492-2A81-43D7-83B9-147B57DE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3F1C7-DEE4-4393-912B-BEA93E6E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15B98-9A93-47FE-8596-8A377E7F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A099D-B159-4837-8CDD-A81D80B5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CB25-DA25-49EA-8294-FEDEFDE5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5C63A-564F-41F8-A94A-59B93418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146D2-85BF-44B9-8ADB-D831E8E9E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1E18C-AF78-4FD2-B149-F813BD1C3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1318F-AA78-4617-ABFC-2532B59BC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327BF-87A6-4976-83DE-DD63243C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C12B0-DE91-4FE0-B6FB-6F83C321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473EF-055C-476E-A0DD-B0668318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DB32E-ED2A-4A78-9973-F10651492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28617-0EF0-4331-82EC-A856F7AD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6AA8A-DE4F-4DA6-8D08-A0A13362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186C-985A-4A1E-8147-208C0E4E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C3F6F-AB9E-4E6E-B69D-0AE9E23F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86A47-86AD-4B64-999E-88059C67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3A218-7ED1-4F5A-BD0F-24E61466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89C34-8DA7-4195-AAF9-C6E1ED408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F3AA2-5845-4356-A295-CEA55EAC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D5A3EE-D5A8-4B03-A31D-183915855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3B8CF2-72D4-4331-9EFC-C7292A52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A9E079-4C44-4336-ACED-D1C12458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CAE4B4-0A5A-48ED-8F7B-61B8DB52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32B4C0-8C6D-4414-A368-8FE5F2A8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D5A7-E925-4196-8881-88482C9E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A884DE-AC1C-49CF-86B0-7239F7FA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85180F-A09C-460B-86D2-9F4838C8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B20214-76DB-4C5E-9711-B1C5F79A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804CCF-DBEA-47B8-94BE-4612E2B4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705C90-9023-4807-B4D8-AA453181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B37697-C937-4341-A564-51D45C538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96CEE4-2C00-402C-B654-C2F63A0C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923FEE-D84C-43F1-8BE4-654A8FBCB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DD79E1-8859-472F-B67D-DA9328E4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109ADB-FF8D-4099-AA00-2D19E3D6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E8E1-CA67-49EC-A7E5-3B666E941FE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2731-EAF4-415E-B6E4-AECC87DC4ED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89EF-D3B7-41DE-BCEB-3B88948CC0C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ED4B-A28E-468A-9948-EF314763EE8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301E-211F-4B24-8164-3FCB4060DD2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58A1-F385-47A8-9142-8476473FD51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8CD5-F696-4D2C-ABDC-9019083F117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4815-BADD-4762-A74B-A6520502A54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EB2F-40A5-4986-8A7D-4B6517CFE5D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378000" y="1139760"/>
            <a:ext cx="841212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396" name="Picture 5" descr="http://hccceng112.files.wordpress.com/2009/10/speech.jpg%3Fw%3D347%26h%3D346"/>
          <p:cNvPicPr/>
          <p:nvPr/>
        </p:nvPicPr>
        <p:blipFill>
          <a:blip r:embed="rId2"/>
          <a:stretch/>
        </p:blipFill>
        <p:spPr>
          <a:xfrm>
            <a:off x="838080" y="2819520"/>
            <a:ext cx="21621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 faculty or power of speaking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- oral communicat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express one's thoughts and emotions by speech sounds and gesture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Note: goal of this speech is to change someone's mind or way of thinking about a topic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. Body language – proper postur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609480" indent="-609480"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609480" indent="-609480">
              <a:buClr>
                <a:srgbClr val="72a376"/>
              </a:buClr>
              <a:buSzPct val="70000"/>
              <a:buFont typeface="Rockwel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. Articulation – how their total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vocal process work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1" name="Picture 4" descr=""/>
          <p:cNvPicPr/>
          <p:nvPr/>
        </p:nvPicPr>
        <p:blipFill>
          <a:blip r:embed="rId2"/>
          <a:stretch/>
        </p:blipFill>
        <p:spPr>
          <a:xfrm>
            <a:off x="6858000" y="228600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40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7" descr=""/>
          <p:cNvPicPr/>
          <p:nvPr/>
        </p:nvPicPr>
        <p:blipFill>
          <a:blip r:embed="rId3"/>
          <a:stretch/>
        </p:blipFill>
        <p:spPr>
          <a:xfrm>
            <a:off x="533520" y="4800600"/>
            <a:ext cx="12189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3. Pronunciatio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4. Pitch – high and lows of the voic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5. Speed – 140 – 160 words per minut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6" name="Picture 7" descr=""/>
          <p:cNvPicPr/>
          <p:nvPr/>
        </p:nvPicPr>
        <p:blipFill>
          <a:blip r:embed="rId2"/>
          <a:stretch/>
        </p:blipFill>
        <p:spPr>
          <a:xfrm>
            <a:off x="6705720" y="4267080"/>
            <a:ext cx="150480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. Pauses – emphasize a certain word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. Volume – make sure that the students people from the last row can hear the speech clearly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9" name="Picture 4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17528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8. Quality - the net caliber of their voice, its character and attributes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9. Variance - change their pitch, volume, and speed at least once every 30 second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21:46:27Z</dcterms:created>
  <dc:creator>nave1386</dc:creator>
  <dc:description/>
  <dc:language>en-US</dc:language>
  <cp:lastModifiedBy>chito caalim</cp:lastModifiedBy>
  <dcterms:modified xsi:type="dcterms:W3CDTF">2010-09-23T14:19:32Z</dcterms:modified>
  <cp:revision>8</cp:revision>
  <dc:subject/>
  <dc:title>Effective Communication: Persuasive Speech</dc:title>
</cp:coreProperties>
</file>